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9D353-C831-484A-8FAF-AEAB5081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BB295-12C7-4BA1-A16E-3B52C803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D8261-5516-478C-B9D8-D84E1D5C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B8022-3703-4D73-88D3-DC83FEA7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B8F1-27A7-4609-81BA-9B2B07C6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C38A-85B5-461C-9407-3CA8FDC1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F760-614E-4114-9E41-EBE7AC5E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CCEC-F53C-455C-93F1-C89DF161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877B-3BE1-4F4F-8157-6565DC2E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C4CA-ABE3-41B9-9574-EE2A571D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8DB8-BF96-4C45-A784-8B7296D2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57626-8B7B-47DB-AF8E-68B100B3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DF5D-26E8-42D4-9878-70F011BA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9A9D-9047-44B6-8E07-44A914DC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7C6D-9D21-4A27-ACF4-82DEAF2E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2279-B387-4CB8-9CE6-B177A111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BA63-6826-40A2-8AFD-1ACCA58C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42B2D-0DBE-4EA3-B896-AEDC6D79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4E231-0F49-4B88-B38F-C53A7EAB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E227E-76B1-4649-BFD8-1976F3ED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8C132-2223-4672-A6F7-09D5F675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526A1-D71D-4ED7-9EFD-3593D989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946F8-48B3-4861-859A-55476280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7405B-8C82-4932-A122-B00762EA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FEE1-6089-4FCF-9BC2-972A229CBA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a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a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544E-D2E5-49A9-91DD-57DD65AE65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293"/>
                </a:solidFill>
                <a:latin typeface="Garamond"/>
              </a:rPr>
              <a:t>Monday, February 9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05740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An isosceles triangle has two legs of 48cm each and a base of 81cm.  Find the three angles in this triangle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dfd293"/>
                </a:solidFill>
                <a:latin typeface="Garamond"/>
              </a:rPr>
              <a:t>Homework:</a:t>
            </a:r>
            <a:br>
              <a:rPr sz="6500"/>
            </a:br>
            <a:br>
              <a:rPr sz="6500"/>
            </a:br>
            <a:r>
              <a:rPr b="1" lang="en-US" sz="6500" spc="-1" strike="noStrike">
                <a:solidFill>
                  <a:srgbClr val="dfd293"/>
                </a:solidFill>
                <a:latin typeface="Garamond"/>
              </a:rPr>
              <a:t>Page 441 #17-21 odd and 26</a:t>
            </a:r>
            <a:endParaRPr b="1" lang="en-US" sz="65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dfd293"/>
                </a:solidFill>
                <a:latin typeface="Garamond"/>
              </a:rPr>
              <a:t>Lesson 6.2</a:t>
            </a:r>
            <a:br>
              <a:rPr sz="8500"/>
            </a:br>
            <a:r>
              <a:rPr b="1" lang="en-US" sz="8500" spc="-1" strike="noStrike">
                <a:solidFill>
                  <a:srgbClr val="dfd293"/>
                </a:solidFill>
                <a:latin typeface="Garamond"/>
              </a:rPr>
              <a:t>part two</a:t>
            </a:r>
            <a:endParaRPr b="1" lang="en-US" sz="85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dfd293"/>
                </a:solidFill>
                <a:latin typeface="Garamond"/>
              </a:rPr>
              <a:t>Area of Triangles</a:t>
            </a:r>
            <a:endParaRPr b="1" lang="en-US" sz="65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Garamond"/>
              </a:rPr>
              <a:t>We should all know the basic formula to find the area of a triangle             </a:t>
            </a:r>
            <a:r>
              <a:rPr b="1" i="1" lang="en-US" sz="5000" spc="-1" strike="noStrike">
                <a:solidFill>
                  <a:srgbClr val="dfd293"/>
                </a:solidFill>
                <a:latin typeface="Garamond"/>
              </a:rPr>
              <a:t>(Area = ½ x base x height)</a:t>
            </a:r>
            <a:endParaRPr b="1" lang="en-US" sz="5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Garamond"/>
              </a:rPr>
              <a:t>But that formula does not work in most cases.</a:t>
            </a:r>
            <a:endParaRPr b="0" lang="en-US" sz="4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Garamond"/>
              </a:rPr>
              <a:t>When you are given the case of SAS (two sides and the angle between them)…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Garamond"/>
              </a:rPr>
              <a:t>Use the appropriate oblique triangle formula</a:t>
            </a:r>
            <a:endParaRPr b="0" lang="en-US" sz="4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Find the area of each triangle: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 = 25, c = 12 and A = 46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 = 11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a = 16 and b = 3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Garamond"/>
              </a:rPr>
              <a:t>Find the area of a triangle where       b = 16, c = 40 and C = 71</a:t>
            </a:r>
            <a:r>
              <a:rPr b="1" lang="en-US" sz="40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endParaRPr b="1" lang="en-US" sz="4000" spc="-1" strike="noStrike">
              <a:solidFill>
                <a:srgbClr val="dfd293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Garamond"/>
              </a:rPr>
              <a:t>If you know SSS (three sides of a triangle), find the area by using Heron’s Formula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ote you must first find the value of “s” for this formul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=(a+b+c)/2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Find the area: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= 16, b = 24, c = 3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= 120, b = 202, c = 3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2:51:58Z</dcterms:created>
  <dc:creator>jnewman</dc:creator>
  <dc:description/>
  <dc:language>en-US</dc:language>
  <cp:lastModifiedBy>abeason</cp:lastModifiedBy>
  <dcterms:modified xsi:type="dcterms:W3CDTF">2009-02-09T15:10:44Z</dcterms:modified>
  <cp:revision>5</cp:revision>
  <dc:subject/>
  <dc:title>Lesson 6.2 part two</dc:title>
</cp:coreProperties>
</file>